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8EE48-A255-43FA-A4C8-3726C4851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C0C55-98B8-4D30-855B-DE6E8C951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3819B-B294-4610-8359-03B742B11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E6567-66EA-458F-B531-37F0EF4A9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6C5D0-BED0-483C-ABE9-C7822D91A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34338-9314-4BFA-B1CA-0FDF37C9F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2A9B6-E313-4B9A-8197-C281F86B0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608CD-BF23-4807-AC4A-FF27A9B7E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9C3EB-14C1-4728-BD05-6DEE19BC8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0049E-1093-4600-BA62-BB03B1D29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2E89D-DDBB-4D9A-AB22-F3059277B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A0D53-0269-4A79-92ED-9D9619F93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E2455-FE41-4897-A799-465668EB79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ngDings bullet chars test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tangular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quare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border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te z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der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ight outline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 filled diamo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 of Dav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5 point st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30T18:28:10Z</dcterms:created>
  <dc:creator> </dc:creator>
  <dc:description/>
  <dc:language>en-US</dc:language>
  <cp:lastModifiedBy>Bilbo Baggins</cp:lastModifiedBy>
  <dcterms:modified xsi:type="dcterms:W3CDTF">2003-02-24T18:57:51Z</dcterms:modified>
  <cp:revision>5</cp:revision>
  <dc:subject/>
  <dc:title>WingDings bullet chars test:</dc:title>
</cp:coreProperties>
</file>