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9533716"/>
        <c:axId val="62091744"/>
      </c:barChart>
      <c:catAx>
        <c:axId val="5953371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091744"/>
        <c:crosses val="autoZero"/>
        <c:auto val="1"/>
        <c:lblAlgn val="ctr"/>
        <c:lblOffset val="100"/>
        <c:noMultiLvlLbl val="0"/>
      </c:catAx>
      <c:valAx>
        <c:axId val="6209174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53371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7FF92-00CE-43FE-BA93-FDFB8671B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35ED8-E7EE-48B0-BBF0-BD123F5D1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2836E-CF8A-4002-B033-9568A795B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EE9F9-B0F1-44A4-8AD9-A5401D04D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B4EB7-9ED8-435A-8A1D-178433F05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E8E8E-39EA-440E-BA33-C94E42BA7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2B305-2A7F-4845-8172-016F8B1A2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E47AB-2D10-4194-A2FD-4AD63F22E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20222-2A1E-4CDD-BD06-B80D4BCFE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AD04F-BED4-44C4-914A-793C0CFC9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D95E5-AF18-470C-B2BB-125E866CA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FC275-65A0-4264-9223-6D2C851E2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7CF0D4-2C89-4752-AAC8-73617393051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