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76803"/>
        <c:axId val="46188472"/>
      </c:barChart>
      <c:catAx>
        <c:axId val="83476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88472"/>
        <c:crosses val="autoZero"/>
        <c:auto val="1"/>
        <c:lblAlgn val="ctr"/>
        <c:lblOffset val="100"/>
        <c:noMultiLvlLbl val="0"/>
      </c:catAx>
      <c:valAx>
        <c:axId val="46188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76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813-17B7-4182-B059-A9496A4E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915-B25F-4D66-BA27-ECE30F56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C31-EC48-436F-8098-B820F407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2DA-EAFB-4CF1-8113-3ED2ED79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C07-CF87-43D4-97D9-918DED0A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F06-885B-415F-89D3-D13E9668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59F-B248-419D-B8D5-E13B0D11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6DD-63D0-43A7-B623-1DE2D6A3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CBF-252F-4847-865F-15388DE5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BE0-3F94-4A26-8394-BFEA1837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1AC-0973-4BC7-BF50-54638BD9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B03-5FE5-407B-A0B0-91FC3098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69020-658F-47F5-B4A3-818231A3B9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